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FE0-3126-4A49-B480-7778BC6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F86-84C1-4AB1-8738-008715D9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91E-DB54-4859-B094-D37AF83C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EDB-3A8B-4270-8B76-4B5F0F63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AAA-F739-45CE-97ED-0508590C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B8F-7277-49C9-A8D4-0ECA98F2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AEC1-7495-471A-B51E-9FF32B2D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A87B-456B-4191-B75B-D1793062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50D-A3F5-49FB-A859-9056A00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5B24-9C56-4E00-BDC9-DA894210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E348-EB2A-41FA-B127-ABEBCC5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556-B318-4AAB-A4A5-ABF7F682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2F6-677A-4D4E-92BC-321C084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B028-B409-4ECA-9038-E272A8B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1688-9455-4A43-940E-1F22DC8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9A2-2122-4F71-AFB9-A8996A5F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40A-3E6B-4F2F-97FC-A621167F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8A4E-28EF-4487-A560-0AD0D721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FE4E-7DFA-4ABF-8659-8FC76759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18A4-49A9-489E-9638-C7703E9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739C-7966-40A0-9982-40CA03C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96BD-C243-4F25-A801-5867379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838-95C3-4139-BCE5-D776712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73B0-71B5-4E71-BB3D-8146F98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DD8C-30F7-4DEC-A3C8-47B38D8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D18D-074A-48E6-AFF4-CAF9735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4CBD-D74B-4899-A3BC-4FC10B9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2CB6-37A4-4374-9911-EA1B592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484E-E2CB-41E1-9235-DA0510AA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02C7-C1EA-4060-94DC-86BDBABD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E406-38AE-4DCE-BA17-1BC942EE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6002-CE64-4C11-84C8-18564E9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960B-312A-421A-94CB-6C577B47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620-D548-49FF-BC62-40857CE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5D93-2F89-4865-AB93-0D4DC0E2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CA2D-C932-421F-957B-88CDBAE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6493-58C5-4F9B-AE82-FBA955BB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B74C-A7BF-4973-B569-8DE76BF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A3E4-9E13-4587-ADE4-E155088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E99D-9292-4357-B824-65FA725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D21D-2C44-420A-9F68-E1D20ED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87EA-422A-4C5B-AC73-83FDF105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D254-75FA-40A9-86E4-47FBB8A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246-132B-48B6-B35F-2CB43FB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62E-543E-4E3D-88BA-02575E42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6C5-704B-4EFE-8343-4FA25D2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F5A-79C7-4C23-B0E1-2F06EDD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8D7-F4B2-40CD-99DD-D324BCD9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190-738A-4C6D-9C14-081D76D68C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941-2C03-4AB3-8B36-2D16EA53C36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3DE8-A846-476F-8EC6-CF374FF910B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375-3258-4E17-95F2-DB9432D4EF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0:35Z</dcterms:modified>
  <cp:revision>9</cp:revision>
  <dc:subject/>
  <dc:title>Sinusoidal Graphs</dc:title>
</cp:coreProperties>
</file>